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gif" ContentType="image/gif"/>
  <Override PartName="/ppt/media/image1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jpeg" ContentType="image/jpeg"/>
  <Override PartName="/ppt/media/image10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BB55-7F57-4C36-82A0-8E6F3390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15B-C2D5-46C9-A54A-C0C3DE67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FFB-CE08-4138-8D0C-DE99A9C1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37F-CA42-423B-B16C-4670ED7E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0874-9671-4C7E-B8FA-D5AD6938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B01D-4D77-43A2-82E9-B648CA64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B8CF-0798-46D5-9FB6-0238216B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3190-D167-4EEE-A4E1-0FB9E430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928E-0CCE-437B-9478-959F2ADF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D8E0-4A59-4FB9-AB2D-AAAE11DA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99D1-D866-4CAD-B37B-B7234880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16C-E3A4-4F33-A15F-B95FF83B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47D5-F229-47F0-BF6F-F608E5AF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F7AE-697B-4AFE-A99A-CD9ACEB7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16DD-4D3A-4DE2-A635-44BE5FCD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2B4D-6265-4CAA-98DD-904DEDE2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C28E-B167-439A-860C-19B7C6EF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E89-74A2-4626-80BA-6F3D22AA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008-39AA-46FE-864A-C74230C6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700-3B52-45CF-BCB0-E750FCA3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4C7-0565-4581-AAE3-1D8E088A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6D7-8226-4588-A7BF-54712B6C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AB43-9AD4-48DF-B33E-D4A4D2AB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C06-3D47-4FA8-B6E5-7C027AEF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C35F-C427-40AD-9BF8-3CDBBD277CD3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F9A3-082D-49F5-B1A4-72F7BDBE9C4B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124080" y="685800"/>
            <a:ext cx="2667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Weather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1" name="032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44197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1116360"/>
            <a:ext cx="73785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905120"/>
            <a:ext cx="62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-by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7" name="118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4765680" cy="6264000"/>
          </a:xfrm>
          <a:prstGeom prst="rect">
            <a:avLst/>
          </a:prstGeom>
          <a:ln w="0">
            <a:noFill/>
          </a:ln>
        </p:spPr>
      </p:pic>
      <p:pic>
        <p:nvPicPr>
          <p:cNvPr id="328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329" name="SO00483_" descr=""/>
          <p:cNvPicPr/>
          <p:nvPr/>
        </p:nvPicPr>
        <p:blipFill>
          <a:blip r:embed="rId3"/>
          <a:stretch/>
        </p:blipFill>
        <p:spPr>
          <a:xfrm>
            <a:off x="8153280" y="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330" name="FD00306_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4043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Yes . I’d like to bye two tickets for Shanghai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. ________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Next Frida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Let me see. FlighCA982____________.     There are still tickets for yo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. __________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TR00116_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849600" cy="1268280"/>
          </a:xfrm>
          <a:prstGeom prst="rect">
            <a:avLst/>
          </a:prstGeom>
          <a:ln w="0">
            <a:noFill/>
          </a:ln>
        </p:spPr>
      </p:pic>
      <p:pic>
        <p:nvPicPr>
          <p:cNvPr id="295" name="BL00526_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w wor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ove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l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ot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sh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i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y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可爱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冷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热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钓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他（ 宾格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再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晴朗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lovely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44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It’s a lovely day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Yes, it is. Nice and sunny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791320" y="2214360"/>
            <a:ext cx="29764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NA01064_" descr=""/>
          <p:cNvPicPr/>
          <p:nvPr/>
        </p:nvPicPr>
        <p:blipFill>
          <a:blip r:embed="rId1"/>
          <a:stretch/>
        </p:blipFill>
        <p:spPr>
          <a:xfrm>
            <a:off x="5383080" y="1600200"/>
            <a:ext cx="3760920" cy="4040280"/>
          </a:xfrm>
          <a:prstGeom prst="rect">
            <a:avLst/>
          </a:prstGeom>
          <a:ln w="0">
            <a:noFill/>
          </a:ln>
        </p:spPr>
      </p:pic>
      <p:pic>
        <p:nvPicPr>
          <p:cNvPr id="303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old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981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It’s cold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Yes 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40160" y="23619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SO00305_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159360" cy="3460680"/>
          </a:xfrm>
          <a:prstGeom prst="rect">
            <a:avLst/>
          </a:prstGeom>
          <a:ln w="0">
            <a:noFill/>
          </a:ln>
        </p:spPr>
      </p:pic>
      <p:pic>
        <p:nvPicPr>
          <p:cNvPr id="308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ho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It’s hot,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isn’t it</a:t>
            </a: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PE00542_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413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a little windy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5362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Lovely weather, isn’t it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Yes. But a little windy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5880" y="2209680"/>
            <a:ext cx="2671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l1523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5146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.  </a:t>
            </a: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a lovely day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2.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a nice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95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It’s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</a:rPr>
              <a:t>a fine day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, isn’t it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Look, he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’s fishing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34120" y="2214360"/>
            <a:ext cx="3433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l1522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429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_______________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Look,____________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SO00483_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84464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13:35:59Z</dcterms:created>
  <dc:creator>jxh</dc:creator>
  <dc:description/>
  <dc:language>en-US</dc:language>
  <cp:lastModifiedBy>jxh</cp:lastModifiedBy>
  <dcterms:modified xsi:type="dcterms:W3CDTF">2001-12-23T15:17:58Z</dcterms:modified>
  <cp:revision>3</cp:revision>
  <dc:subject/>
  <dc:title>PowerPoint 演示文稿</dc:title>
</cp:coreProperties>
</file>